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128C-C5C4-4C65-A0B1-EB8C627F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93B-D2BF-4540-A0C1-7447CA93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D0E29-DBDC-4E18-86B3-3A655EBD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78AAD-D86C-4AF1-986F-BAD5F0AE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5C3A5-5617-4F69-8E9A-F3E3C1C2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79EF1-7808-4182-9C29-DE3942E4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035BD-C118-4925-ACC8-7E46DF38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9729B-234F-4553-82C8-0ACFDE65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E5D86-7198-489F-A3A6-DB80E497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4696D-5E8F-49DA-A2C5-A6920CD0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7A6A3-AECD-4268-B771-369E8B78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AD5F41-EC77-4070-82EA-5BD202E0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6D4-1228-4270-B8A6-E4F7F990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5338E2-AE33-4A7C-8672-828A8464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44E4F3-CF57-45B4-ACFF-A81FB1F2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A92872-B3EA-4BD2-90F8-5D57472D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45BE39-3EDB-4227-8605-DCD07CBA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AA8E28-EDFA-45D5-86F1-80686890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E143FC-6A86-4584-BBD3-D4CD63EB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A65802-A4D6-4BD3-B631-F00E01F1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F0D5B6-C3F4-49D9-8556-2389089E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5A22D6-1064-4ACF-8F40-82F4D475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0AF4FF-4DC5-4064-9D6B-096EF80E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F20-C6B3-4F32-BD1D-7C7A0B3B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E746AD-0740-40CE-921F-A369F4C2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285F-8706-4229-B2AB-A08CF735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303D-A44D-419A-B150-2425D477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C01F-27B6-4E21-A2FE-66FAB95D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967D-A1D4-45F6-9647-9C7D8B2E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B545-DD72-4A3D-AA4F-4AEC3A39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39A8-9D2A-4FF0-8101-FCA3D680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1AF8-F940-4D66-954F-B9CBDB92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856-8BA0-4F23-862D-525AE2C7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D8BD-5841-4753-A9EA-6CB6F4B0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7AFF-BEB3-4D4D-9AAA-120DE031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173C-5931-4D4C-B885-A07D19C0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EBBA-C231-4EE1-95F2-7DE2F9B6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4D4C-2F08-4CB0-8ADC-A5D4CFF1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08DE7-CAEB-4B5A-8C4B-F780CD0C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C83BF-4F97-4AB5-A7E4-3F51261C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9EA1D-D34C-49BD-8B29-E6A2BD4A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35F74-7DE1-4498-A6D0-14E59838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55B9E-C444-4C14-AD9E-8FB33FD6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097D-D0EA-4FCB-8ACB-4E02AF62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3CFDB-2E0B-4661-BEA9-0E4D91E3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1E53A-1C3D-4C05-AE47-A75FE428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95905-F025-470A-ADFA-2888CA37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4C45A-89B4-41B3-9396-05785C1B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13BBA-03FC-48F7-B944-9909B873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A1393-7795-431B-BFB6-AE0C497D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23950-7C10-4CFB-9D0D-5BFB2768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696FE-5291-4060-9F5C-FB8C6735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1657E-7993-43E3-AEC3-19587398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41606-D4EE-464D-BBAF-AD376876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3ED-2E8E-4515-A0A5-1D6C55E5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B054F-D6AF-4016-A4D6-E631E659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BD184-2931-4386-BD5C-89479E6D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51FF6-D5BD-4312-AF79-5B40C26E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A1FAB-0D9C-48B6-B1A0-949F32FE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79210-946C-4123-A2AB-44730711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D6564-A236-4CB7-A632-FC2F2E61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6948A-B060-4A8B-B910-61705BD7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4B2B4-A159-4E9C-8D0D-6AE30AED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21D32-4C7A-47FE-8F9A-B51C5706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0B31D-F703-496C-8B5E-32FAA02D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0F9-792A-48EB-BCA6-C85B3D21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4BBE4-E1F9-44A9-A2BD-8E24A20A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63F20-F8D0-4CAC-A6F3-629A73D4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8119E-71F5-49F4-804C-4D5B12AD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C84B1-1BA5-419C-BFA7-802B2EFD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41B8A-B8E5-4ED6-AF39-6C394394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C8F18-2777-4A31-BFCD-299E9DF4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67596-8365-44C0-B173-C10CE8B0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9D2D5-F39C-4C3A-95BF-7182F262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2F93A-D3B2-4360-AF7D-C1565F52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96E5F-4CB9-48C9-A8E3-03F781C1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CB62-D97D-4C01-96BA-3338B605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18ED3-8EA6-41B0-BB80-E2935D51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52964-6D60-46C2-9302-D54FAB7E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7C323-F171-47EE-92DA-4283801A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90102-2CCC-495E-9FA1-EA64D433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4B144-3616-4F70-B6A6-57CB59C3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38424-541C-4634-B740-9541CEB9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C71EB-99D9-4485-A1E3-E672C95B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3BD98-AFB8-48F6-9929-DC6DF943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0B67C-51D4-4DF6-98EA-DDCDBD5E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A92A2-5E83-4C96-B80F-0D63B56B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57FB-322B-4C8F-9CBC-E515151E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AF8D1-4847-4EE7-A3E4-A1CECDD0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75B8E-064C-4862-8CC0-174F0B5B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8495F-9974-45D6-836E-55B86EE9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3B8D9-451C-43A6-B981-76B2E9D3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DC255-ECE9-49D5-93B7-5748DE40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AD4F1-BE1A-4476-B927-ADFECFE2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8114F-266F-4605-8C7F-D5417556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981BC-D491-440F-8D6B-3A6965FB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99320-B730-4598-B6B3-D47750A1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252E5-F043-4346-9186-9AF66ADF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830-C625-41F8-BCCD-CEF850CE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72DE7-E3F0-4C30-9A76-385AEA2A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8C7AA-9028-441D-B744-0A69A1A0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91E3C-7138-4CF3-BCA7-394F7E12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219EB-A24B-4B04-BE94-A20D2D0C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DE33F-82FC-4552-BE33-DD98BF24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16F58-B1CF-4F82-B58F-2C262338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0ED6A-708B-4BBB-A840-94891FFC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681FA-1CE2-4787-84C9-9EAB124D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9E027-68BF-4E44-9571-8068C139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356F6-C29F-42A9-A2C1-6E03ACF4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7D94-D672-4E77-AFFA-6351EFE4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A8F27-7A80-484B-A783-D9ACBC3E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95903-3837-4940-9CD5-65754534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D9E47-0E6D-4B14-92A0-1AE6A0A7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9B8A0-DC9A-4E22-B7AE-054A25AD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09B71-0A5B-4B4E-86E4-B083DEC2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EE884-5223-4F79-93C4-43867974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839AC-50FC-4E81-A73D-E349542D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4BC19-C302-4E52-9B42-89AF6BC8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88D64-9315-49EF-AF6A-6D917678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36190-7744-4947-8E35-773188B6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1A57-FA26-4745-BD2C-23DD93D514A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8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8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8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9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0766-5AD2-4B36-BE8F-E463C70707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6C8D-DE07-4F1A-A0C1-CBD1EF58CF5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854E-9414-4CEC-963E-C8BBED19C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0459-403E-46BD-85C0-28C4E6418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4775-C3A7-4980-9331-A56E472E93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4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3532-B863-43CF-93A7-1BC3830074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11C0-5D61-49A4-98AD-DFA2459F4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7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D966-1541-4043-AF85-39928FFB7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2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2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3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C91A-BD6C-4673-B175-660F8C91B3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Формирование самооцен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Мнение окружающих люд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Собственный жизненный опы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Степень воздействия на формирование нашей самооценки имеет значимость для нас мнения того или иного челове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 txBox="1"/>
          <p:nvPr/>
        </p:nvSpPr>
        <p:spPr>
          <a:xfrm rot="297000">
            <a:off x="726840" y="1123560"/>
            <a:ext cx="705636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оце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685800" y="2142720"/>
            <a:ext cx="769608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здоровое отношение человека к самому 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чувство собственного достоинства и уверенности в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актор признания или непризнания человека окружающими людьми оказывает влияние на формирование у него правильного отношения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 txBox="1"/>
          <p:nvPr/>
        </p:nvSpPr>
        <p:spPr>
          <a:xfrm rot="183000">
            <a:off x="826920" y="744120"/>
            <a:ext cx="71866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ува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 негативным подтекстом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никогда не сможешь ничего добиться в своей жизн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полная копия своего отц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Позитивное высказывание: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Вы напоминаете мне … Вы энергичны и решительн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Я ценю ваше умение выполнять поручаемую работу. Вы очень эффективный работник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619280" y="1197000"/>
            <a:ext cx="626580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269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говорят о на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бладающего чувством самоуваже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крытый взгля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олова поднята; походка прям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разговоре выражает позитивное отношение к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корит себя; ощущает принятие со стороны окружающих люд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увствует себя способным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рет на себя ответственность и заботится о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меет здоровые привыч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042920" y="1052640"/>
            <a:ext cx="7201080" cy="71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5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С низкой самооценко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чет глаза, старается отвести взгля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ходьбе сутулится, вжимает голову в пле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нижает собственное достои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тоянно ощущает чувство в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способен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заботится о себе, не несет ответственности за себя и свои действ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меет вредные привыч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755640" y="1052640"/>
            <a:ext cx="74167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844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огие используют еду как средство снятия напря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удачные попытки сбросить вес ведут к  потери самоува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ильная самооценка и уважительное отношение к себе помогает человеку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бросить вес, удержать его и полностью изменить свой стиль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755640" y="1052640"/>
            <a:ext cx="725472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789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зиимосвязь ожирения и самооцен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Необходим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ить в возможность повышения самооц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ть пути повышения самооце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47640" y="836640"/>
            <a:ext cx="640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к повысить самооценку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Сознательно формируйте чувство самоуважения и верьте в собственную значим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Анализируйте свои чувства и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Постарайтесь осознать, что эмоции и чувства являются продуктом ваших мыс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Определите мысли вызывающие негативные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имер: «Я – полный неудачник» или «эта задача мне не по силам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еняйте негативные мысли на позитивные: «Я не считаю себя неудачником, моя зависимость от еды – временное явление. Я смогу похуде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 Помните, что вы можете изменить себя, если измените свои мыс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Научитесь прощать себя и друг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Окружите себя людьми, которые понимают и поддерживают ва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Находите для себя возможность ежедневно заниматься любимым дел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) чтение, занятие спортом, прогулка на свежем воздухе, прослушивание музыки, работа в сад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) помните о том, что утомление часто является скрытой формой депресс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0:32:42Z</dcterms:created>
  <dc:creator>Черевичная Вера Петровна</dc:creator>
  <dc:description/>
  <dc:language>en-US</dc:language>
  <cp:lastModifiedBy>Черевичная Вера Петровна</cp:lastModifiedBy>
  <dcterms:modified xsi:type="dcterms:W3CDTF">2007-02-08T10:59:59Z</dcterms:modified>
  <cp:revision>2</cp:revision>
  <dc:subject/>
  <dc:title>Слайд 1</dc:title>
</cp:coreProperties>
</file>